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2B06B-47CE-4576-A6A9-117AC75E1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61C06-6A48-480C-9766-E472C7374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F90AD-131B-4320-B8B1-4FAE84B5C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47F93-F745-402F-8E56-420BDA4FF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E1007E-EEC2-48C4-B74F-12C5913C4C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CEFB3-A188-4D0F-9153-EB76354EB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7F293-5780-49FD-9ED5-2989F047A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40173-EBA6-44F7-A709-C50CB864D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7591A-9475-4466-8109-4758035E1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F1DCC-749E-438B-A851-044C05F12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AE25D-F4C7-4912-AF27-5B6CD6458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F6FDD-CC62-4736-9190-2179E2A07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61C0F-BEE8-4834-89AF-EE95BF4FD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BD354-CFE1-4E92-89E3-689CE207A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5C6DD-A582-4C1E-BD8E-B376D1E04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4ADE19-9304-4821-AAC2-861ABCDE85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B4B3FD-D393-48EB-903A-40A6B2B8C8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7F941-E2CB-46BF-A904-31684DB48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383D7-4A7D-4069-999C-1421C2100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A17AB-79FE-44F8-8218-7EB9924DD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5EEC8-A3BB-4053-933E-01FAF006C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8300E-C5B8-4E27-8F84-A6CB7E049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DC2D1-B355-4015-AA81-E54B2A787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F73AC-1B7D-4C62-802B-DC2A47554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6281D-0960-44F4-B626-F613ED3053B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D227-EA71-48E5-A596-BC92C491EE7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he Khmer</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y: Dillon Glagola</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Arial"/>
              </a:rPr>
              <a:t>What is Khmer?</a:t>
            </a: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Khmer is the name of a Kingdom on the Indochina Peninsula, and It’s also the name of the People who live in it.</a:t>
            </a:r>
            <a:endParaRPr b="0" lang="en-US" sz="3200" spc="-1" strike="noStrike">
              <a:solidFill>
                <a:srgbClr val="2f1311"/>
              </a:solidFill>
              <a:latin typeface="Arial"/>
            </a:endParaRPr>
          </a:p>
        </p:txBody>
      </p:sp>
      <p:pic>
        <p:nvPicPr>
          <p:cNvPr id="196" name="" descr=""/>
          <p:cNvPicPr/>
          <p:nvPr/>
        </p:nvPicPr>
        <p:blipFill>
          <a:blip r:embed="rId2"/>
          <a:stretch/>
        </p:blipFill>
        <p:spPr>
          <a:xfrm>
            <a:off x="2666880" y="3124080"/>
            <a:ext cx="2976840" cy="319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en was the Kingdom made, and Who ruled it? </a:t>
            </a:r>
            <a:endParaRPr b="0" lang="en-US" sz="3600" spc="-1" strike="noStrike">
              <a:solidFill>
                <a:srgbClr val="f7d47d"/>
              </a:solidFill>
              <a:latin typeface="Arial"/>
            </a:endParaRPr>
          </a:p>
        </p:txBody>
      </p:sp>
      <p:sp>
        <p:nvSpPr>
          <p:cNvPr id="19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t was made around 802, and two rulers were Jayavarman the second, who was a deva-raja, or god king, and it gave him absolute power, and Suryavarman the second, who oversaw the construction of Angkor W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Arial"/>
              </a:rPr>
              <a:t>How did being a deva-raja effect the expansion of the Khmer Kingdom, and how did the Kings use that power?</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2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t allowed them to have larger armies, and the kings used it to have even more power over their subject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How did the Irrigation system help Khmer’s economy?  </a:t>
            </a:r>
            <a:endParaRPr b="0" lang="en-US" sz="3600" spc="-1" strike="noStrike">
              <a:solidFill>
                <a:srgbClr val="f7d47d"/>
              </a:solidFill>
              <a:latin typeface="Arial"/>
            </a:endParaRPr>
          </a:p>
        </p:txBody>
      </p:sp>
      <p:sp>
        <p:nvSpPr>
          <p:cNvPr id="20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y were able to farm three times a year, and they were able to sell all those crops for a ton of money!</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at’s Angkor, and what does it show about the Khmer people?</a:t>
            </a:r>
            <a:endParaRPr b="0" lang="en-US" sz="3600" spc="-1" strike="noStrike">
              <a:solidFill>
                <a:srgbClr val="f7d47d"/>
              </a:solidFill>
              <a:latin typeface="Arial"/>
            </a:endParaRPr>
          </a:p>
        </p:txBody>
      </p:sp>
      <p:sp>
        <p:nvSpPr>
          <p:cNvPr id="20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t was the place where first royal city they had was, and  it shows they were very profitable, for a whil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at was the purpose of Angkor Wat, and why is it on the Cambodian flag? </a:t>
            </a:r>
            <a:endParaRPr b="0" lang="en-US" sz="3600" spc="-1" strike="noStrike">
              <a:solidFill>
                <a:srgbClr val="f7d47d"/>
              </a:solidFill>
              <a:latin typeface="Arial"/>
            </a:endParaRPr>
          </a:p>
        </p:txBody>
      </p:sp>
      <p:sp>
        <p:nvSpPr>
          <p:cNvPr id="20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t was originally a temple to honor the Hindu god Vishnu, but became the temple of the King who ordered it built. It’s on the Cambodian flag because when Cambodia won its independence, The Khmer joined them.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y did the citizens of Khmer work on the temple? </a:t>
            </a:r>
            <a:endParaRPr b="0" lang="en-US" sz="3600" spc="-1" strike="noStrike">
              <a:solidFill>
                <a:srgbClr val="f7d47d"/>
              </a:solidFill>
              <a:latin typeface="Arial"/>
            </a:endParaRPr>
          </a:p>
        </p:txBody>
      </p:sp>
      <p:sp>
        <p:nvSpPr>
          <p:cNvPr id="20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 think they did because they thought their King was a god, and they didn’t want to bother him.</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1" name=""/>
          <p:cNvSpPr txBox="1"/>
          <p:nvPr/>
        </p:nvSpPr>
        <p:spPr>
          <a:xfrm>
            <a:off x="609480" y="2895480"/>
            <a:ext cx="71629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 hope you liked my presentation!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14:32:53Z</dcterms:created>
  <dc:creator>dglagola</dc:creator>
  <dc:description/>
  <dc:language>en-US</dc:language>
  <cp:lastModifiedBy>dglagola</cp:lastModifiedBy>
  <dcterms:modified xsi:type="dcterms:W3CDTF">2011-02-14T14:44:29Z</dcterms:modified>
  <cp:revision>5</cp:revision>
  <dc:subject/>
  <dc:title>The Khmer </dc:title>
</cp:coreProperties>
</file>